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947-48F0-4FC4-9FB0-088A30BB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5FD-7ABB-4043-9B4D-966A59F5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69BCC-B327-4A07-8FF6-549BD135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1DF8F-CCCD-48E1-A8AC-BC1F3A0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E7919-F046-4E07-8E29-71C3216B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1BD83-70D6-479A-983B-4D206D9D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573A6-B459-4D65-8E5F-8A4EAAD7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196AA-D06A-4A31-A8CD-D4A8B13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9AFC6-55A1-4C41-BF9D-94688B03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6AE92-86AE-4FCA-88FC-7D8A60C5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4E582-8417-4E45-9B16-00088092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F645A-B0CF-4FA5-AC69-F3B4880C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E65-4623-4B03-B6E3-961B1395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4CA9E-95BE-449C-AADD-9466C2A7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2A9D2-B79F-4C3B-A1F1-16AE5EA5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61748-A7F9-4982-8A7C-B7B81325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9E6A4-B8C9-4C21-8D45-D9B2BE7F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D50A6-094E-451F-8B6D-9EB197C7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28652-7DF5-48F0-BC9B-ECF585C0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0FCA1-46A7-4BA3-AE39-053500F7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4073F-C651-495C-BDB4-FE91D23A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984A9-CDF2-4CA8-A78E-7B835C67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1A393-C52A-4788-8B38-817C261D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952-B20F-4D81-B977-30B843D7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6276A-5D68-4B93-820C-04382F3D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21072-968B-4234-B7CD-8B8CC863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DED24-FFFF-47DB-92AE-A74E6D80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20FA9-CA90-4B9A-ACBF-5CB37250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4E5B2-7958-4A12-8CE1-D1FDF2B5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740B5-C525-4107-BE61-03CDF8C4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9D062-D2AA-48F0-BD5A-E1FE24F8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21CDE-EA0B-40C0-BF9E-77330D7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841F1-3288-4A6C-93F6-B865F0A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BC6A7-9CBC-41E5-B955-3AAC144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7E8C-9B6E-4322-B442-2EBE66D7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C5773-415F-4FF1-963D-3E917F06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C51CF-9D3B-43E4-BCA6-F1D8F743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8793F-06B2-47D7-A6F5-5B59610D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523C4-09BB-4468-A427-37133B29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0DA83-34D3-47DF-BE8D-CEFCD4EC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4DF94-C90B-4D90-8297-D8A17591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42CF4-1297-4FB7-8F69-DC6EA3F6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D7AE4-D5CF-4B7D-8997-2EAE918E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60416-FB57-4551-B9F8-018CDF00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1DE6D-C5CC-449A-912A-68AD551A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6793-5422-44F9-BD22-B840DC4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D817C-5776-4A3B-8F46-D262698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51264-B168-474B-8821-F6B3C7B6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EAB11-0C7D-4C79-9582-19EDC931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D9BF2-E609-4560-8D0D-099236A5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073DE-FBD1-448F-BF0E-7ADA78D6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5B637-2DA5-45C6-9157-FBCCA177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53654-8D74-463D-BE5D-E3FCB73A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603DC-DD87-404C-8A8B-23A87393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72160-DCE1-49B5-BD74-624209CF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FA1A8-2400-4937-802B-69FF18E9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0793-7529-42AC-888B-7B6D90D8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F55EC-806A-4776-BCA2-A276BA1A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5B51E-A8BA-49AB-9A81-78FDBD23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73054-D897-4258-A45C-1803574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3CD02-06F6-41A0-A13B-344526C3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C718E-43EE-4257-BDE0-596B07B9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499F2-5226-4916-B2BA-2F946A7E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B663B-26A1-4D41-B739-369F1B55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06BCE-A8A9-4837-86F1-C69C7DF8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CA395-AD5D-4972-9B59-B18E86D5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EA940-1A4E-45E7-824C-D0BF4D73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AD08-3139-4351-82F3-6930163C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44F32-9D43-4DD9-BBCF-ACDD3D29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E15C1-0281-414F-B88A-375729C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23CA4-85E0-400A-9FD2-5C0CF54B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A83F2-87F0-4BFA-8B96-ED70309D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66303-BC40-49B2-B358-3A1C10D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DE4DE-A939-4D4A-B636-19FBA7F7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25258-A1E0-4F37-9AC4-0C73D5B7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AF50A-164D-4675-B85D-DD6788E5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CBBD5-1034-454E-AB4A-A4AB1801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C27BB-C14F-40BB-9F50-39A1A27B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5A19-0D51-42C9-AC7B-0AF5E5DA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B1232-9FEF-4828-9384-B37BE09D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E7437-90A5-464C-B59E-3888D834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AD9FE-7588-46EC-956C-BEB218B1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68E4F-E1AA-404F-BB64-E1A1A4BD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B4113-B4FD-4868-83B0-ECBF0420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20567-4991-4998-A4EE-B2C83BA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20B8E-A57B-413A-A208-C9188F7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4CCDD-90B5-4663-AC5B-01021E1B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D426F-5971-4B50-873C-7382FEF1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A39AE-A8CE-452C-B6B2-B3FB7DD4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FAF8-6AEC-4777-B1A8-5DE635F1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D3A9A-E98F-441A-AD3D-29753759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D16E0-16D1-4E0E-B317-82528908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1206B-514C-4EA4-8B55-8B6DDCB3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416C6-2443-47D8-88B2-E1B7D7BA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75A2C-ECC2-4448-8970-1C26039B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18B50-8B6F-4DBC-8C29-08DD0AF7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F8E93-B54D-4E85-A7A7-44B91AC2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38926-8F11-4128-AB8B-20363FF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82055-B8F4-4A44-8E78-BA24F16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0B397-1BDF-4751-BC02-B0C4F2C4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CF58-E85C-4446-8276-BD80722C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05D45D-E4AB-46D1-922D-E043E7E2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605F2-D6D0-4413-87B4-E1FE8DBD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0D9FC-A2E6-4AE7-A481-C95E72BD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E50C5-F046-4DCD-86CD-B6C23E19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4056B-B6C8-4D4A-9C9C-EA290DE8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EA4AF-FE09-4719-9948-4E781170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387AF-3180-4201-990F-088CDA68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3C12FB-7750-4ECF-8261-B836BD99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AEAF6-7ABA-423F-A2A7-C709BD13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A871E-0599-48ED-B323-55FDA94F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638-6B4F-42B0-9089-7A2E7FD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170C-5AFA-4529-B778-FDF7D05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38BD6-5935-4E25-9A49-4C9A7AF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52BEC6-5430-4F2D-8F07-0F3EA4B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8EF1D-B473-46CF-A28C-9C3FC466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174F7-5065-442C-9971-8DE02F9C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37806-51ED-4BC9-8E6C-6AF26253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58B58-B6D1-4C80-BCFC-979A90E6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BFA79-EFB9-4E5A-A702-4912D50B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CD73D-5B21-44C3-B7CB-BB55C328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8E1C1-0391-4E2D-BCBA-7FD1F486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909EC-B880-45EC-B7EB-680B46B7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64E7-FE31-43A0-B02B-A2512BE9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4D1D1-29D3-4A4B-9F00-C17722D1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785D3-151F-4EBC-BC22-9D8C380B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90B61-227D-4359-B9CE-0721AD03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E8491-35C1-4EAA-AD2A-E8CFACE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B585F-A7FB-423D-8111-682D6FF3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2E3A0-1986-4E82-BB9D-5DBDE458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CE5D09-ECB1-43A9-B4DE-5D48B263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DCE531-09A2-48F3-8F7A-5541FEB1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9D8E4-0A12-408C-9B09-61CC901A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06D17-2B91-46DF-970A-2EEC955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17D3-276B-4E16-AC30-559C054C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82D8D6-23A7-4AE6-8D13-543642C2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7C936-4A7C-47A9-BE7D-56EF2BC2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C30B5-DB3F-42A4-95E9-BAB3003B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FE5BF-06F1-4FE1-869A-CBEE1C4B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C060D7-594C-4D08-A09A-C400A05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AD00F-26BA-46FE-8F20-5A546CB3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A1379-F8FC-4458-B016-73A03297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E45C91-A81C-4D49-8519-C480BE09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49CFB-D220-479E-8E47-2B38DA3A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BE0804-20FA-45A1-89F6-F4DA8C36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35F3-9740-4374-BDBD-1529D0B0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F033A-9452-42A2-9F3E-234C509A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A10EEC-19EA-4FC1-9000-8E048E1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03A67E-65C7-4C9F-8A9C-DF5BD410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D63746-C8C6-443E-AD0B-3A478B3E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811B6-386E-472E-A579-91FAD232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97363C-B4F9-4008-B227-A61A667E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8A29C-083D-43E6-9BCA-90677BE1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8A297-0762-4988-B49C-0A0F0A5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B785D-4189-43FF-8007-AD781CFA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63C0E-DB95-4635-8386-74A3E88B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C77E-80FF-4753-8C95-93A38E1C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AB087-ED5D-4F4B-A45C-F77C6331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B03CEF-859A-4163-9D79-D11CA31E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FB6C9-6904-4F05-8B6F-4939937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04DF8-4A26-4D5F-9B7F-963DBE17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DC118-2C41-4758-9380-E243584A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99DB8-2C2E-40B2-A175-79E954CB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F62283-1171-4DD5-ADF9-E5E51FB3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AB0F6E-B92C-4E12-8C7E-71944DA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2D1B0-01A0-4499-A350-E68B990C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C9074-A23F-4F00-8E52-608F7872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219E-CEA7-44C9-8D90-366E56CB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12C030-6E7C-4677-AEE8-3FDA5442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8CE6A-EF5C-4DEB-85C7-04ED5E94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1D8A07-196B-4F3A-91E2-5DC1CE18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FE27-B0B5-4585-9D51-0FCAC810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D069-28F1-47E3-8DD7-9BBC2A2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B3589-9C4F-4B9D-8841-427BC38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ED49-ED03-48A8-B5EB-A59B4DD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08C-AAEC-4111-82B4-54449537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28EA-143A-489C-8289-6E0D0AF4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05A0-90D6-4B51-946A-42B469D4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ECA5-AED1-473A-AF1C-E392F70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0DE1-8DD2-491B-B084-AFC2859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D8DE-8D5D-45D6-8D0C-D18BF655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1057F-8C76-4C83-A7E1-7789CE6B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B823-228B-4003-9B4F-9DE17D82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B62DA-45F3-4E02-9066-BC795696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F24F-1E1E-4140-A434-62E8E00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D17BB-119A-4113-99C3-1DB3188E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403-CF41-4C7D-9F3A-B7BC7133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F003-1FD8-4F0B-B62A-74D70A9D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9737D-CD15-4DB2-8B92-B6295D9A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B9C89-60F6-4EF5-9C8F-76042306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2145-3639-49F6-A6E6-5825215F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10CD-FF30-4BE4-9F4E-F11DCA7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E964-ECF2-4BA2-B4D5-A622F177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BB7C8-AB18-4CF8-B5B5-6761CD73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AB20-6516-4AD4-AE65-7DC63F3E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E846-F8F9-407A-B9EA-8D6B7A14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179EA-9ED5-46D9-A526-499E2762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327-1049-4B53-920A-7E6EB050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5CB4-791B-4D06-A831-CE12D98E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336F-A26E-4283-B817-2BE126B7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CC2D-E541-4391-AE4C-7C8990C7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E5D17-DCEC-44A2-99EA-B5BDD3AD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5F40-5228-46E0-8410-75C2AB24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4DF02-B3C7-4BE8-83A9-F8803E6D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EBD11-85A9-4CD2-BA72-F62DBFF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350A5-ECC1-420F-BAE4-4A2DE97C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92B47-4C22-442B-83D1-1EB143B0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F99AD-ADF3-49F5-BE70-77F5FCDA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241-ADC7-41D3-9EAB-8B802BB5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07AAF-A136-4BCE-867D-41FE4965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8AE65-51DE-465F-8EAA-1A06C3F8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07BDF-AA52-4CB5-AFD9-160D04FA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2983-7A83-4E09-BA0A-565ADC2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C02A9-C9C1-4102-BD95-B62AB12A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31F43-0DA3-445F-80CB-9EAB9E16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DB958-DEB7-4855-B253-CE6143C4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B1FC7-11E7-4F57-849E-4E504396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94CCF-B41D-46EB-A389-2DCD94B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2635-BDF5-48A7-AD78-89B691B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9FF-73E3-4BF8-BE35-D3FA21B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25BB7-DEAA-4A84-8D92-2E0683F4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6E93-66AB-4E95-B047-6FAA2C06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2F7A4-51B0-4B75-8E47-2C57E071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FF3E-0246-485B-9591-660B14D0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259F6-A6C9-4B5C-B83F-E74FD60E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365AA-7F49-4B37-8979-96B67609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B9A86-DC7C-4954-826F-A2A028AB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6D6BA-2C25-4C8F-8E4C-CC34C07C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6F1F2-80A9-428A-BB57-5CAF24EA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506C5-7226-4159-8B11-39411FB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04F-3113-4ED3-B8DF-D5ADD1A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07C8-F54D-43F5-AC2B-1DF46653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81382-0EA8-452E-8465-20380533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621F5-CCE4-417C-9A20-12C4339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BF1CD-232B-44BB-814A-3181F1D4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DB77-C248-424B-8DD0-69B972F7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AEE8D-7AC6-4A7E-A6E4-8D69E87F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67019-8775-4BD3-9CA3-F8D35305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BA8C6-F832-4F8F-AEAD-42210068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ED0F5-D23D-41C9-8A31-DE0AD8FB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87731-3B88-454B-910A-EFBD983F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A29-35F8-44DB-A0BC-32E2DE2F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6D442-BDBF-4EE9-ACA1-FAE3AE39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D1076-B31D-43EA-B1C1-3915842A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2D450-7D5F-4DDD-89F0-1D0660F1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D153D-DEBD-46B3-98BD-98B329A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AF1C2-2411-4889-B3D5-C663D283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76A44-1024-4909-91D4-44891954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629BF-0BD9-4F16-B855-B1D9524A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2F309-3D77-4917-8BE2-5B78A845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27DA9-C915-451A-A927-38EE30E2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0D0D9-B351-4AFD-899D-66060272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4988-3548-4C62-A265-FC260E11EB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F133-3557-45F8-B8EA-034C0FD21F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974F-1F25-4785-BFF4-95E35B79D1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9924-834E-49C4-B01F-C5D7D8562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47F0-26B5-4337-9780-43C2E5DC31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64A7-3A7F-4B63-BE92-B4CC6F5BB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289-C544-4FD7-BF45-1FA8D7853C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C48E-FCAC-4C15-9C42-6499A4C54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D9BA-D698-4D2E-993B-141FE5754C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4C88-8CB3-477A-8594-0136BBCE9E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1865-651C-4FFF-850E-76228277F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DAAE-4172-4B7B-A62D-410A4F449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C8AB-0D22-46F0-8B5C-6DBD0B0F32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542E-71C7-4B2B-A6F4-55B9487CD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4CAE-66EA-4676-9F01-975FA192A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41A2-AF85-44FD-AB21-78D65BB982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45F4-020C-4B49-AD86-04D6A4394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C7B4-7B55-4073-97F8-4BEDC3258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346B-DBD7-4A86-92B7-1B86CC7D60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0027-E4EA-45F6-A8F2-4633CE0E1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3281-E05D-4F73-93F1-8B05019891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1B77-55E1-4DDB-AD4F-469D99CB80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BC97-7F3A-4F2A-892A-77A3E941D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1BB6-33CE-40CE-A917-9ADE4E7B4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B576-8BC9-47BB-ADD7-78C78F977D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80BC-6D57-4D6A-862C-CE5573094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75E2-C99F-4721-B8DC-8E13432CA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5F43-FA76-4011-B742-E485278BFF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F2DD-6AD2-4F06-B387-9457FADD14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6247-9079-4C9A-BD3F-FE5E108D1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F6C1-9FAA-4EC3-9698-1F640C7033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EEC3-DC3E-4B1D-8E4D-845A71739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933C-9650-4442-850E-6B9CE7563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DFDD-7002-41A8-9349-75A5AA2080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7EA7-2E75-4992-B3A3-A597A22CF1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65A3-A0C2-4D02-ADB7-C343E97EF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C9B1-16E8-4118-9396-E8CD19673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40C2-C514-4D8B-A20A-8A7896B850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532D-1CF7-4721-82C6-AC692E871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8AD-0818-4706-A6DF-45171D2D0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95520" y="2567160"/>
            <a:ext cx="595296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图片 52231" descr=""/>
          <p:cNvPicPr/>
          <p:nvPr/>
        </p:nvPicPr>
        <p:blipFill>
          <a:blip r:embed="rId1"/>
          <a:stretch/>
        </p:blipFill>
        <p:spPr>
          <a:xfrm>
            <a:off x="318960" y="1162080"/>
            <a:ext cx="8506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69633" descr=""/>
          <p:cNvPicPr/>
          <p:nvPr/>
        </p:nvPicPr>
        <p:blipFill>
          <a:blip r:embed="rId1"/>
          <a:stretch/>
        </p:blipFill>
        <p:spPr>
          <a:xfrm>
            <a:off x="623880" y="1442880"/>
            <a:ext cx="7896240" cy="39722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2"/>
          <a:stretch/>
        </p:blipFill>
        <p:spPr>
          <a:xfrm>
            <a:off x="468360" y="1427040"/>
            <a:ext cx="4319640" cy="479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3"/>
          <a:stretch/>
        </p:blipFill>
        <p:spPr>
          <a:xfrm>
            <a:off x="395280" y="2075040"/>
            <a:ext cx="4319640" cy="4791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4319640" cy="479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5"/>
          <a:stretch/>
        </p:blipFill>
        <p:spPr>
          <a:xfrm>
            <a:off x="395280" y="3429000"/>
            <a:ext cx="4319640" cy="479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6"/>
          <a:stretch/>
        </p:blipFill>
        <p:spPr>
          <a:xfrm>
            <a:off x="395280" y="4149720"/>
            <a:ext cx="8280360" cy="4795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7"/>
          <a:stretch/>
        </p:blipFill>
        <p:spPr>
          <a:xfrm>
            <a:off x="468360" y="4811760"/>
            <a:ext cx="8280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68609" descr=""/>
          <p:cNvPicPr/>
          <p:nvPr/>
        </p:nvPicPr>
        <p:blipFill>
          <a:blip r:embed="rId1"/>
          <a:stretch/>
        </p:blipFill>
        <p:spPr>
          <a:xfrm>
            <a:off x="752400" y="731880"/>
            <a:ext cx="7639200" cy="60102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"/>
          <a:stretch/>
        </p:blipFill>
        <p:spPr>
          <a:xfrm>
            <a:off x="1258920" y="3616200"/>
            <a:ext cx="6626160" cy="4795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3"/>
          <a:stretch/>
        </p:blipFill>
        <p:spPr>
          <a:xfrm>
            <a:off x="1258920" y="4292640"/>
            <a:ext cx="6626160" cy="4795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4"/>
          <a:stretch/>
        </p:blipFill>
        <p:spPr>
          <a:xfrm>
            <a:off x="1258920" y="5057640"/>
            <a:ext cx="6626160" cy="4795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5"/>
          <a:stretch/>
        </p:blipFill>
        <p:spPr>
          <a:xfrm>
            <a:off x="1258920" y="5734080"/>
            <a:ext cx="6626160" cy="4795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6"/>
          <a:stretch/>
        </p:blipFill>
        <p:spPr>
          <a:xfrm>
            <a:off x="1332000" y="6364440"/>
            <a:ext cx="66261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14520" y="752400"/>
            <a:ext cx="7914960" cy="5353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753160" y="3284640"/>
            <a:ext cx="690480" cy="479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702480" y="329580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380360" y="3284640"/>
            <a:ext cx="690480" cy="479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461960" y="4292640"/>
            <a:ext cx="662040" cy="479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492880" y="4292640"/>
            <a:ext cx="620640" cy="479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415200" y="434988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093080" y="4321080"/>
            <a:ext cx="620640" cy="47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119560" y="5373720"/>
            <a:ext cx="621000" cy="47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040440" y="538812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732720" y="5373720"/>
            <a:ext cx="620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666720" y="1871640"/>
            <a:ext cx="7810560" cy="3114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753160" y="2060640"/>
            <a:ext cx="69048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718320" y="21337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7437600" y="206064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4500720" y="3156120"/>
            <a:ext cx="576000" cy="4791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5378400" y="318456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6127920" y="314172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4038480" y="422100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4759200" y="41781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0"/>
          <a:stretch/>
        </p:blipFill>
        <p:spPr>
          <a:xfrm>
            <a:off x="5651640" y="42354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1"/>
          <a:stretch/>
        </p:blipFill>
        <p:spPr>
          <a:xfrm>
            <a:off x="6372360" y="4192560"/>
            <a:ext cx="576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76801" descr=""/>
          <p:cNvPicPr/>
          <p:nvPr/>
        </p:nvPicPr>
        <p:blipFill>
          <a:blip r:embed="rId1"/>
          <a:stretch/>
        </p:blipFill>
        <p:spPr>
          <a:xfrm>
            <a:off x="343080" y="1719360"/>
            <a:ext cx="8458200" cy="3419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71640" y="317016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3384720" cy="479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5003640" y="3214800"/>
            <a:ext cx="3384720" cy="479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4788000" y="3905280"/>
            <a:ext cx="338436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4788000" y="4552920"/>
            <a:ext cx="3384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8373" descr=""/>
          <p:cNvPicPr/>
          <p:nvPr/>
        </p:nvPicPr>
        <p:blipFill>
          <a:blip r:embed="rId1"/>
          <a:stretch/>
        </p:blipFill>
        <p:spPr>
          <a:xfrm>
            <a:off x="652320" y="1704960"/>
            <a:ext cx="7839360" cy="3448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097440" cy="479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3097080" cy="479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309708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5002200" y="242100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4859280" y="306864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4859280" y="3789360"/>
            <a:ext cx="338472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8"/>
          <a:stretch/>
        </p:blipFill>
        <p:spPr>
          <a:xfrm>
            <a:off x="4859280" y="4437000"/>
            <a:ext cx="3384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7352" descr=""/>
          <p:cNvPicPr/>
          <p:nvPr/>
        </p:nvPicPr>
        <p:blipFill>
          <a:blip r:embed="rId1"/>
          <a:stretch/>
        </p:blipFill>
        <p:spPr>
          <a:xfrm>
            <a:off x="733320" y="1752480"/>
            <a:ext cx="7677360" cy="3353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611280" y="315612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612720" y="385920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539640" y="452268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4861080" y="254952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4788000" y="321300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859280" y="3860640"/>
            <a:ext cx="324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6324" descr=""/>
          <p:cNvPicPr/>
          <p:nvPr/>
        </p:nvPicPr>
        <p:blipFill>
          <a:blip r:embed="rId1"/>
          <a:stretch/>
        </p:blipFill>
        <p:spPr>
          <a:xfrm>
            <a:off x="843120" y="1805040"/>
            <a:ext cx="7457760" cy="3247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520720" cy="47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252072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826920" y="3859200"/>
            <a:ext cx="2521080" cy="47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826920" y="4508640"/>
            <a:ext cx="2521080" cy="4791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5076720" y="249228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5076720" y="314172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8"/>
          <a:stretch/>
        </p:blipFill>
        <p:spPr>
          <a:xfrm>
            <a:off x="4932360" y="3860640"/>
            <a:ext cx="324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5300" descr=""/>
          <p:cNvPicPr/>
          <p:nvPr/>
        </p:nvPicPr>
        <p:blipFill>
          <a:blip r:embed="rId1"/>
          <a:stretch/>
        </p:blipFill>
        <p:spPr>
          <a:xfrm>
            <a:off x="728640" y="1433520"/>
            <a:ext cx="76867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4276" descr=""/>
          <p:cNvPicPr/>
          <p:nvPr/>
        </p:nvPicPr>
        <p:blipFill>
          <a:blip r:embed="rId1"/>
          <a:stretch/>
        </p:blipFill>
        <p:spPr>
          <a:xfrm>
            <a:off x="1290600" y="1609560"/>
            <a:ext cx="6562800" cy="36388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1332000" y="1685880"/>
            <a:ext cx="4752720" cy="479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1332000" y="2349360"/>
            <a:ext cx="475272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1332000" y="3024360"/>
            <a:ext cx="4752720" cy="4791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1332000" y="3687840"/>
            <a:ext cx="4752720" cy="4795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1332000" y="4422600"/>
            <a:ext cx="59767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7:0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